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5E9C-AC1D-4F0E-835E-40A7E86F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659-8833-4A97-88FF-FFB464F4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53F-82E8-4BE6-91C1-83ED3792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1DB-A1CA-4E82-AB1A-331B0634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EECE-B9AD-429F-8B82-A0313D9A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6C48-D938-46F9-941C-0936C939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C416-4ED0-4440-9C4E-3C433DE6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D79F-C95A-403F-9D15-566140DB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006A-DCFD-4DE6-B6C4-576A5300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3478-A155-435A-A8B3-DE7C68B9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4261-909B-449F-988D-311D694E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30E-204A-4C27-B7A2-02464C53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9FB5-03B3-482E-B4A7-1AA47D35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EF30-0CE0-475F-BB0C-0ED6C7A8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0394-3CD1-490B-8AB8-F295A40D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9253-4CF4-4B54-B1F8-57192F74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D632-5008-4B84-9B68-7B086350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9AB-F395-4A8D-A000-D0554EF8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633-3B38-43A8-844E-54EB037B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4552-DA00-43A5-BC2E-0E32B557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709A-E731-4FFF-BCAA-70217ED6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2C7-C143-45FE-9502-7A47B00E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D40-6521-4D36-960D-EFF2DE80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197E-2FC8-4BAC-987F-9EB258A8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028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029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030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031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032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033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055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056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057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058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059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060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061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062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063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064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065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066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067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068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069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070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071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072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073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074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075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076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077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078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079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080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081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082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083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084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085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086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087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088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089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090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091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092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093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094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095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096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097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098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099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100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101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102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103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104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105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1106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1107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1108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1109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1110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1111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1112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1113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1114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1115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1116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1117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1118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1119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1120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1121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1122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1123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124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125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126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27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8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29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0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E96A-3D71-44B0-9E1C-6E8852611B8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3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37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59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60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61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68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69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72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86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88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89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90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92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95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97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98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02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3473-B6FB-4FF8-8AB7-8D3FBB3FAA2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he Thorax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19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xial &amp; Appendicular Skelet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mmary Gland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urface Anatom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showimage"/>
          <p:cNvPicPr/>
          <p:nvPr/>
        </p:nvPicPr>
        <p:blipFill>
          <a:blip r:embed="rId1"/>
          <a:stretch/>
        </p:blipFill>
        <p:spPr>
          <a:xfrm>
            <a:off x="2666880" y="838080"/>
            <a:ext cx="5035680" cy="54817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6"/>
          <p:cNvSpPr/>
          <p:nvPr/>
        </p:nvSpPr>
        <p:spPr>
          <a:xfrm>
            <a:off x="1219320" y="1371600"/>
            <a:ext cx="2133360" cy="459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cromion e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6781680" y="1371600"/>
            <a:ext cx="1752840" cy="459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ternal e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1371600" y="4419720"/>
            <a:ext cx="647712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352320" y="5181120"/>
            <a:ext cx="312444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avic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costal Musc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856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ternal Intercosta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O: Inferior border of rib abov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ff"/>
                </a:solidFill>
                <a:latin typeface="Times New Roman"/>
              </a:rPr>
              <a:t>I: Superior border of rib below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ibers run OBLIQUE (down and forwar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id in Inspiration (lift ribcage, increase dimension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ernal Intercosta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O: Superior border of rib below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ff"/>
                </a:solidFill>
                <a:latin typeface="Times New Roman"/>
              </a:rPr>
              <a:t>I: Inferior border of rib abo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ibers run at RIGHT ANGLES to external intercosta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id in forced expiration (depress ribcage, decrease dimension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nermost Intercostals, Subcostals, Transversus thorac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ttachments similar to Internal Intercostals, Attach rib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mall, variable, function unclea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85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urovascular Bundle of Intercost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562720" y="205704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9900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(vein, artery, nerv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tercostal vei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Intercostal arter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ff"/>
                </a:solidFill>
                <a:latin typeface="Times New Roman"/>
              </a:rPr>
              <a:t>Intercostal nerv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it in Subcostal Groo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tween Internal Intercostal and Innermost intercostal lay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6" name="ClipArt Placeholder 7" descr="showimage"/>
          <p:cNvPicPr/>
          <p:nvPr/>
        </p:nvPicPr>
        <p:blipFill>
          <a:blip r:embed="rId1"/>
          <a:stretch/>
        </p:blipFill>
        <p:spPr>
          <a:xfrm>
            <a:off x="152280" y="2011320"/>
            <a:ext cx="520884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733920" y="609120"/>
            <a:ext cx="501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ertebral Colum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352320" y="190476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umans’ made of 26 bo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ervical 7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oracic 1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umbar 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acrum (5 fused sacral vertebra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ccyx (4 fused coccygeal vertebra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tends from skull to pelv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pports body, muscle attach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ertebral Ca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reated by vertebral foram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ntains + protects spinal cor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9" name="Picture 6" descr="Vertebral Column-N142"/>
          <p:cNvPicPr/>
          <p:nvPr/>
        </p:nvPicPr>
        <p:blipFill>
          <a:blip r:embed="rId1"/>
          <a:stretch/>
        </p:blipFill>
        <p:spPr>
          <a:xfrm>
            <a:off x="1523880" y="0"/>
            <a:ext cx="1671840" cy="6858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40" name="Oval 7"/>
          <p:cNvSpPr/>
          <p:nvPr/>
        </p:nvSpPr>
        <p:spPr>
          <a:xfrm>
            <a:off x="2286000" y="4572000"/>
            <a:ext cx="304920" cy="533520"/>
          </a:xfrm>
          <a:prstGeom prst="ellipse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Line 8"/>
          <p:cNvSpPr/>
          <p:nvPr/>
        </p:nvSpPr>
        <p:spPr>
          <a:xfrm flipH="1">
            <a:off x="1676160" y="4876920"/>
            <a:ext cx="60948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0" y="4343400"/>
            <a:ext cx="19051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tervertebral foram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ical” Vertebra Featu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7315200" y="5943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g 16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5" name="Picture 7" descr="showimage"/>
          <p:cNvPicPr/>
          <p:nvPr/>
        </p:nvPicPr>
        <p:blipFill>
          <a:blip r:embed="rId1"/>
          <a:stretch/>
        </p:blipFill>
        <p:spPr>
          <a:xfrm>
            <a:off x="380880" y="2438280"/>
            <a:ext cx="853452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ervical Vertebrae (7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504960" y="1142640"/>
            <a:ext cx="56386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**Transverse Foramen **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perior Articular Facets face superoposteriorl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ferior Articular Facets face inferoanteriorl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llows wide range of mo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pinous process fairly short, bifid (except for C7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ertebral Foramen is Triangular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dy is wider laterally than in A-P dire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8" name="Picture 6" descr="Cervical Vert"/>
          <p:cNvPicPr/>
          <p:nvPr/>
        </p:nvPicPr>
        <p:blipFill>
          <a:blip r:embed="rId1"/>
          <a:stretch/>
        </p:blipFill>
        <p:spPr>
          <a:xfrm>
            <a:off x="609480" y="457200"/>
            <a:ext cx="2697120" cy="6243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typical Cervical Vertebra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711680" cy="5181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1 – Atl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o bod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o Spinous Proc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uperior Articular facets are kidney shap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2 – Axi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Odontoid Process = De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Other features typic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1" name="Picture 6" descr="Atlas-Axis"/>
          <p:cNvPicPr/>
          <p:nvPr/>
        </p:nvPicPr>
        <p:blipFill>
          <a:blip r:embed="rId1"/>
          <a:stretch/>
        </p:blipFill>
        <p:spPr>
          <a:xfrm>
            <a:off x="4719600" y="2362320"/>
            <a:ext cx="4424400" cy="3581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52" name="Text Box 7"/>
          <p:cNvSpPr/>
          <p:nvPr/>
        </p:nvSpPr>
        <p:spPr>
          <a:xfrm>
            <a:off x="5029200" y="6324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g 167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95120" y="609120"/>
            <a:ext cx="58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oracic Vertebrae (12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200400" y="1980720"/>
            <a:ext cx="5943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*Transverse Costal Facets **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S/I Costal facets on vertebral body*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pinous Processes long, point inferiorl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perior Articular Facets face Dorsally/Posteriorl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ferior Articular Facets face Ventrally/Anteriorl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ertebral Foramen is Circula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dy is Heart-shap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5" name="Picture 6" descr="Thoracic Vert"/>
          <p:cNvPicPr/>
          <p:nvPr/>
        </p:nvPicPr>
        <p:blipFill>
          <a:blip r:embed="rId1"/>
          <a:stretch/>
        </p:blipFill>
        <p:spPr>
          <a:xfrm>
            <a:off x="228600" y="762120"/>
            <a:ext cx="2587680" cy="5634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5333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umbar Vertebrae (5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5627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pinous process is short, rectangular, projects dorsall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perior Articular Facets face Mediall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ferior Articular Facets face Laterall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ertebral Foramen is Triangula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dy is large and Kidney-shap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8" name="Picture 5" descr="Lumbar Vert"/>
          <p:cNvPicPr/>
          <p:nvPr/>
        </p:nvPicPr>
        <p:blipFill>
          <a:blip r:embed="rId1"/>
          <a:stretch/>
        </p:blipFill>
        <p:spPr>
          <a:xfrm>
            <a:off x="5943600" y="304920"/>
            <a:ext cx="2446200" cy="62481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0" descr="showimage"/>
          <p:cNvPicPr/>
          <p:nvPr/>
        </p:nvPicPr>
        <p:blipFill>
          <a:blip r:embed="rId1"/>
          <a:stretch/>
        </p:blipFill>
        <p:spPr>
          <a:xfrm>
            <a:off x="380880" y="2057400"/>
            <a:ext cx="8458200" cy="454968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11"/>
          <p:cNvSpPr/>
          <p:nvPr/>
        </p:nvSpPr>
        <p:spPr>
          <a:xfrm>
            <a:off x="2438280" y="762120"/>
            <a:ext cx="3733920" cy="642600"/>
          </a:xfrm>
          <a:prstGeom prst="rect">
            <a:avLst/>
          </a:prstGeom>
          <a:noFill/>
          <a:ln w="936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acrum &amp; Coccyx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xial vs. Appendicular Skelet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62160" y="2209680"/>
            <a:ext cx="4957560" cy="42624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xial Skelet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kull = Cranium + Facial bo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ertebra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ib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ternu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ppendicular Skelet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ones of upper/lower limb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imb Gird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Picture 6" descr="HumSkeleton"/>
          <p:cNvPicPr/>
          <p:nvPr/>
        </p:nvPicPr>
        <p:blipFill>
          <a:blip r:embed="rId1"/>
          <a:stretch/>
        </p:blipFill>
        <p:spPr>
          <a:xfrm>
            <a:off x="762120" y="1295280"/>
            <a:ext cx="2977920" cy="53341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95" name="Text Box 7"/>
          <p:cNvSpPr/>
          <p:nvPr/>
        </p:nvSpPr>
        <p:spPr>
          <a:xfrm>
            <a:off x="2514600" y="6095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g 14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vertebral Dis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280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nulus Fibrosu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uter collar of concentric ring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uter rings = ligame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ner rings = fibrocartilag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upportive/Structur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ucleus Pulposu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ner disc, cushiony p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mnants of notocor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hock Absorb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3" name="Picture 5" descr="LumbarArticulated"/>
          <p:cNvPicPr/>
          <p:nvPr/>
        </p:nvPicPr>
        <p:blipFill>
          <a:blip r:embed="rId1"/>
          <a:stretch/>
        </p:blipFill>
        <p:spPr>
          <a:xfrm>
            <a:off x="6080040" y="2976480"/>
            <a:ext cx="3063960" cy="3881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Intervertebral Disc Anatomy"/>
          <p:cNvPicPr/>
          <p:nvPr/>
        </p:nvPicPr>
        <p:blipFill>
          <a:blip r:embed="rId2"/>
          <a:stretch/>
        </p:blipFill>
        <p:spPr>
          <a:xfrm>
            <a:off x="4419720" y="1523880"/>
            <a:ext cx="2163600" cy="21099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65" name="Line 7"/>
          <p:cNvSpPr/>
          <p:nvPr/>
        </p:nvSpPr>
        <p:spPr>
          <a:xfrm flipV="1">
            <a:off x="3048120" y="3048120"/>
            <a:ext cx="2438280" cy="17524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Line 8"/>
          <p:cNvSpPr/>
          <p:nvPr/>
        </p:nvSpPr>
        <p:spPr>
          <a:xfrm>
            <a:off x="3048120" y="2133720"/>
            <a:ext cx="1828800" cy="76176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3886200" y="4572000"/>
            <a:ext cx="2590920" cy="459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tervertebral disc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Line 10"/>
          <p:cNvSpPr/>
          <p:nvPr/>
        </p:nvSpPr>
        <p:spPr>
          <a:xfrm flipV="1">
            <a:off x="6477120" y="4114440"/>
            <a:ext cx="533160" cy="6858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 flipV="1">
            <a:off x="6477120" y="4647960"/>
            <a:ext cx="53316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6477120" y="4800600"/>
            <a:ext cx="533160" cy="53352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6477120" y="4800600"/>
            <a:ext cx="685800" cy="10666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429000" y="228600"/>
            <a:ext cx="5105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ertebral Colum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504960" y="1066320"/>
            <a:ext cx="563868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ateral Curvatur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Following Dorsal Sid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ervical Region = Concave cur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oracic Region = Convex cur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umbar Region = Concave cur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acrum = Convex cur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bnormal Cur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coliosi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-abnormal lateral curve &gt; 10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°, “twisted disease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Kyphosi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exaggerated thoracic curve, “humped disease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Lordosis-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ccented lumbar curve, “bent-backward disease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4" name="Picture 5" descr="Vertebral Column-N142"/>
          <p:cNvPicPr/>
          <p:nvPr/>
        </p:nvPicPr>
        <p:blipFill>
          <a:blip r:embed="rId1"/>
          <a:stretch/>
        </p:blipFill>
        <p:spPr>
          <a:xfrm>
            <a:off x="228600" y="380880"/>
            <a:ext cx="1484280" cy="60912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75" name="Line 6"/>
          <p:cNvSpPr/>
          <p:nvPr/>
        </p:nvSpPr>
        <p:spPr>
          <a:xfrm flipH="1">
            <a:off x="1142640" y="1219320"/>
            <a:ext cx="121932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Line 7"/>
          <p:cNvSpPr/>
          <p:nvPr/>
        </p:nvSpPr>
        <p:spPr>
          <a:xfrm flipH="1">
            <a:off x="1676160" y="2743200"/>
            <a:ext cx="99036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Line 8"/>
          <p:cNvSpPr/>
          <p:nvPr/>
        </p:nvSpPr>
        <p:spPr>
          <a:xfrm flipH="1">
            <a:off x="1523520" y="4724280"/>
            <a:ext cx="129564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Line 10"/>
          <p:cNvSpPr/>
          <p:nvPr/>
        </p:nvSpPr>
        <p:spPr>
          <a:xfrm flipH="1">
            <a:off x="1600200" y="5638680"/>
            <a:ext cx="137160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2438280" y="914400"/>
            <a:ext cx="457200" cy="459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2971800" y="4419720"/>
            <a:ext cx="457200" cy="459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3048120" y="5486400"/>
            <a:ext cx="609480" cy="459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6" descr="kyphoticSpine"/>
          <p:cNvPicPr/>
          <p:nvPr/>
        </p:nvPicPr>
        <p:blipFill>
          <a:blip r:embed="rId1"/>
          <a:stretch/>
        </p:blipFill>
        <p:spPr>
          <a:xfrm>
            <a:off x="0" y="0"/>
            <a:ext cx="4495680" cy="35971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384" name="Picture 4" descr="lordosis"/>
          <p:cNvPicPr/>
          <p:nvPr/>
        </p:nvPicPr>
        <p:blipFill>
          <a:blip r:embed="rId2"/>
          <a:stretch/>
        </p:blipFill>
        <p:spPr>
          <a:xfrm>
            <a:off x="4267080" y="3124080"/>
            <a:ext cx="4672080" cy="3733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igaments of Vertebral Colum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462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Anterior Longitudinal Ligament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(neck – sacrum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Run vertically on anterior surface of vertebral bodies + intervertebral disc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ide,stro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revents hyperextens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sterior Longitudinal Ligament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(neck – sacrum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Run vertically on posterior surface of intervertebral discs onl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Narrow, weak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revents hyperflex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igamentum Flavum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(contains elastic connective tissu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ttaches lamina of vertebrae (one on right, one on left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Very strong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igaments of Vertebral Colum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0" y="4343400"/>
            <a:ext cx="190512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igamentum flavu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Line 5"/>
          <p:cNvSpPr/>
          <p:nvPr/>
        </p:nvSpPr>
        <p:spPr>
          <a:xfrm flipV="1">
            <a:off x="1905120" y="4343400"/>
            <a:ext cx="91440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Line 6"/>
          <p:cNvSpPr/>
          <p:nvPr/>
        </p:nvSpPr>
        <p:spPr>
          <a:xfrm>
            <a:off x="1905120" y="4952880"/>
            <a:ext cx="914400" cy="15264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7543800" y="3962520"/>
            <a:ext cx="1371600" cy="68580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Line 8"/>
          <p:cNvSpPr/>
          <p:nvPr/>
        </p:nvSpPr>
        <p:spPr>
          <a:xfrm flipH="1">
            <a:off x="6857640" y="4267080"/>
            <a:ext cx="6858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3" name="Picture 12" descr="showimage"/>
          <p:cNvPicPr/>
          <p:nvPr/>
        </p:nvPicPr>
        <p:blipFill>
          <a:blip r:embed="rId1"/>
          <a:stretch/>
        </p:blipFill>
        <p:spPr>
          <a:xfrm>
            <a:off x="0" y="2438280"/>
            <a:ext cx="4191120" cy="39625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4" descr="showimage"/>
          <p:cNvPicPr/>
          <p:nvPr/>
        </p:nvPicPr>
        <p:blipFill>
          <a:blip r:embed="rId2"/>
          <a:stretch/>
        </p:blipFill>
        <p:spPr>
          <a:xfrm>
            <a:off x="3714840" y="2666880"/>
            <a:ext cx="54291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78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scles of Anterior Thora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6" name="Picture 20" descr="showimage"/>
          <p:cNvPicPr/>
          <p:nvPr/>
        </p:nvPicPr>
        <p:blipFill>
          <a:blip r:embed="rId1"/>
          <a:stretch/>
        </p:blipFill>
        <p:spPr>
          <a:xfrm>
            <a:off x="0" y="762120"/>
            <a:ext cx="5629320" cy="425772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10"/>
          <p:cNvSpPr/>
          <p:nvPr/>
        </p:nvSpPr>
        <p:spPr>
          <a:xfrm>
            <a:off x="0" y="762120"/>
            <a:ext cx="2514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ectoralis maj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4495680" y="2057400"/>
            <a:ext cx="2819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ectoralis min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9" name="Picture 22" descr="showimage"/>
          <p:cNvPicPr/>
          <p:nvPr/>
        </p:nvPicPr>
        <p:blipFill>
          <a:blip r:embed="rId2"/>
          <a:stretch/>
        </p:blipFill>
        <p:spPr>
          <a:xfrm>
            <a:off x="5891040" y="3048120"/>
            <a:ext cx="3252960" cy="3809880"/>
          </a:xfrm>
          <a:prstGeom prst="rect">
            <a:avLst/>
          </a:prstGeom>
          <a:ln w="0">
            <a:noFill/>
          </a:ln>
        </p:spPr>
      </p:pic>
      <p:sp>
        <p:nvSpPr>
          <p:cNvPr id="400" name="Line 17"/>
          <p:cNvSpPr/>
          <p:nvPr/>
        </p:nvSpPr>
        <p:spPr>
          <a:xfrm>
            <a:off x="6553080" y="4724280"/>
            <a:ext cx="838440" cy="60984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Line 18"/>
          <p:cNvSpPr/>
          <p:nvPr/>
        </p:nvSpPr>
        <p:spPr>
          <a:xfrm>
            <a:off x="6553080" y="4724280"/>
            <a:ext cx="990720" cy="3049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5105520" y="4267080"/>
            <a:ext cx="15238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erratus anteri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Line 23"/>
          <p:cNvSpPr/>
          <p:nvPr/>
        </p:nvSpPr>
        <p:spPr>
          <a:xfrm>
            <a:off x="1523880" y="1219320"/>
            <a:ext cx="76320" cy="10666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Line 24"/>
          <p:cNvSpPr/>
          <p:nvPr/>
        </p:nvSpPr>
        <p:spPr>
          <a:xfrm flipH="1">
            <a:off x="3428640" y="2286000"/>
            <a:ext cx="106668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Line 18"/>
          <p:cNvSpPr/>
          <p:nvPr/>
        </p:nvSpPr>
        <p:spPr>
          <a:xfrm>
            <a:off x="6629400" y="4724280"/>
            <a:ext cx="914400" cy="763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0" y="2590920"/>
          <a:ext cx="9144000" cy="3865320"/>
        </p:xfrm>
        <a:graphic>
          <a:graphicData uri="http://schemas.openxmlformats.org/drawingml/2006/table">
            <a:tbl>
              <a:tblPr/>
              <a:tblGrid>
                <a:gridCol w="1827360"/>
                <a:gridCol w="1601640"/>
                <a:gridCol w="1828800"/>
                <a:gridCol w="1905120"/>
                <a:gridCol w="1981080"/>
              </a:tblGrid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uscl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rigi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ser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nerva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erratus anterior (ventralis)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ibs 1-9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capula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rotract, Rotate scapula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ong Thoracic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ternocleidomastoid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ternum, clavicl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astoid process, S. nuchal lin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lex, Lat flex, Rotate head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ccessor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Text Box 69"/>
          <p:cNvSpPr/>
          <p:nvPr/>
        </p:nvSpPr>
        <p:spPr>
          <a:xfrm>
            <a:off x="1523880" y="91440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scles of Thora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532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scles of Thora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0" y="2214720"/>
          <a:ext cx="9144000" cy="4708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752480"/>
                <a:gridCol w="1905120"/>
              </a:tblGrid>
              <a:tr h="96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uscl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rigi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ser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nerva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ectoralis major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ternum, Ribs 2-6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umeru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dduct, Flex, Med Rotate Arm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 &amp; L pectoral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ectoralis minor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ibs 3-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capula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epress, Rotat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 &amp; L pectoral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0" descr="showimage"/>
          <p:cNvPicPr/>
          <p:nvPr/>
        </p:nvPicPr>
        <p:blipFill>
          <a:blip r:embed="rId1"/>
          <a:stretch/>
        </p:blipFill>
        <p:spPr>
          <a:xfrm>
            <a:off x="1905120" y="914400"/>
            <a:ext cx="4167000" cy="5943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149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uscles of Posterior Thorax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990720" y="2209680"/>
            <a:ext cx="167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rapeziu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914400" y="4038480"/>
            <a:ext cx="16002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atissimus dorsi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914400" y="2971800"/>
            <a:ext cx="1371600" cy="459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eltoi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Line 18"/>
          <p:cNvSpPr/>
          <p:nvPr/>
        </p:nvSpPr>
        <p:spPr>
          <a:xfrm>
            <a:off x="2286000" y="3124080"/>
            <a:ext cx="6094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5105520" y="1981080"/>
            <a:ext cx="2666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evator scapula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5486400" y="3200400"/>
            <a:ext cx="297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homboideus maj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5105520" y="2514600"/>
            <a:ext cx="297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homboideus min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Line 25"/>
          <p:cNvSpPr/>
          <p:nvPr/>
        </p:nvSpPr>
        <p:spPr>
          <a:xfrm>
            <a:off x="4343400" y="2438280"/>
            <a:ext cx="762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0" y="2023920"/>
          <a:ext cx="9144000" cy="4834080"/>
        </p:xfrm>
        <a:graphic>
          <a:graphicData uri="http://schemas.openxmlformats.org/drawingml/2006/table">
            <a:tbl>
              <a:tblPr/>
              <a:tblGrid>
                <a:gridCol w="1828800"/>
                <a:gridCol w="2133720"/>
                <a:gridCol w="1523880"/>
                <a:gridCol w="1690560"/>
                <a:gridCol w="1967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uscl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rigi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ser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nerva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rapeziu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igamentum nuchae,     C</a:t>
                      </a:r>
                      <a:r>
                        <a:rPr b="0" lang="en-US" sz="28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T</a:t>
                      </a:r>
                      <a:r>
                        <a:rPr b="0" lang="en-US" sz="28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capula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levate, Adduct, Rotate, Depres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ccessor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evator Scapula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C</a:t>
                      </a:r>
                      <a:r>
                        <a:rPr b="0" lang="en-US" sz="28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capula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levate 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. Scapular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homboid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T</a:t>
                      </a:r>
                      <a:r>
                        <a:rPr b="0" lang="en-US" sz="28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capula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dduct, Elevate, Rotat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. Scapular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1" name="Text Box 122"/>
          <p:cNvSpPr/>
          <p:nvPr/>
        </p:nvSpPr>
        <p:spPr>
          <a:xfrm>
            <a:off x="1447920" y="6094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scles of Thora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Bony Thora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876560" cy="4876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ternu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anubrium, Body (Gladiolus), Xiphoid Proces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ib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7 True Rib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5 False Rib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avic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capul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ertebra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ervicle,Thoracic, Lumbar, Sacral (Sacrum), Coccygeal (Coccyx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6629400" y="1600200"/>
            <a:ext cx="990720" cy="121932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8077320" y="1905120"/>
            <a:ext cx="609480" cy="228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8153280" y="1600200"/>
            <a:ext cx="381240" cy="152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8153280" y="2209680"/>
            <a:ext cx="304920" cy="228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5562720" y="1676520"/>
            <a:ext cx="380880" cy="304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Rectangle 13"/>
          <p:cNvSpPr/>
          <p:nvPr/>
        </p:nvSpPr>
        <p:spPr>
          <a:xfrm>
            <a:off x="8153280" y="2590920"/>
            <a:ext cx="457200" cy="304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7772400" y="609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g 14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Picture 4" descr="f7-32b_thoracic_cage"/>
          <p:cNvPicPr/>
          <p:nvPr/>
        </p:nvPicPr>
        <p:blipFill>
          <a:blip r:embed="rId1"/>
          <a:stretch/>
        </p:blipFill>
        <p:spPr>
          <a:xfrm>
            <a:off x="5105520" y="1447920"/>
            <a:ext cx="3886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2640" y="837720"/>
            <a:ext cx="7302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scles of Thora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0" y="2290680"/>
          <a:ext cx="9144000" cy="4210200"/>
        </p:xfrm>
        <a:graphic>
          <a:graphicData uri="http://schemas.openxmlformats.org/drawingml/2006/table">
            <a:tbl>
              <a:tblPr/>
              <a:tblGrid>
                <a:gridCol w="1828800"/>
                <a:gridCol w="1523880"/>
                <a:gridCol w="1676520"/>
                <a:gridCol w="2209680"/>
                <a:gridCol w="190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uscl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rigi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ser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nervatio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eltoid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avicle, Scapula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umeru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lex, Abduct, Extend, L&amp;M rotat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xillar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atissimus dorsi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liac crest,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7-12</a:t>
                      </a: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 Lumbar fascia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umeru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xtend, Adduct, M Rotate Arm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horaco-dorsal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8153280" cy="647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Location: (female breast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uperior border: 2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rib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ferior border: 6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ri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Medial border: Sternu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Lateral border: Midaxillary lin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cation: (male nipple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urth Intercostal Space, Midclavicular lin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nderlying musc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ectoralis major and min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art of serratus anterior, external obliqu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ateral Thoracic Artery, branches of Internal Thoracic A., Post. Intercosta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ercostal, Internal Thoracic, Axillary Vei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ranches of Intercostal Nerv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5638320" y="990360"/>
            <a:ext cx="25146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Breas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15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mmary Glan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actiferous (modified sweat) Gland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reast made of 15-25 lobe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each a compound alveolar glan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obes made of lobules (= clusters of acini/alveoli)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cini/Alveoli lined w/milk-secreting simple epithelial cel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Times New Roman"/>
              </a:rPr>
              <a:t>Lactiferous Duct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of lobes open at nip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Areol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-ring of pigmented skin around nip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ebaceous gland produce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bum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during nurs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obes separated by adipose tissue and suspended by connective tissue =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uspensory Ligaments of the Breas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mmary Glan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9" name="Picture 3" descr="Mammary Gland"/>
          <p:cNvPicPr/>
          <p:nvPr/>
        </p:nvPicPr>
        <p:blipFill>
          <a:blip r:embed="rId1"/>
          <a:stretch/>
        </p:blipFill>
        <p:spPr>
          <a:xfrm>
            <a:off x="0" y="1676520"/>
            <a:ext cx="5791320" cy="36478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430" name="Picture 2" descr="showimage"/>
          <p:cNvPicPr/>
          <p:nvPr/>
        </p:nvPicPr>
        <p:blipFill>
          <a:blip r:embed="rId2"/>
          <a:stretch/>
        </p:blipFill>
        <p:spPr>
          <a:xfrm>
            <a:off x="5943600" y="1676520"/>
            <a:ext cx="2995560" cy="2819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1" name="Picture 4" descr="mastitis2"/>
          <p:cNvPicPr/>
          <p:nvPr/>
        </p:nvPicPr>
        <p:blipFill>
          <a:blip r:embed="rId3"/>
          <a:stretch/>
        </p:blipFill>
        <p:spPr>
          <a:xfrm>
            <a:off x="5867280" y="4572000"/>
            <a:ext cx="3048120" cy="2133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urface Anatom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1828800" y="297180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se the next 3 slides and follow the book t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alpate (feel) the features list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nterior Surface of Thora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723920" y="190512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alpate the follow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ternum (3 part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ugular not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ternal Angle (= 2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rib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avic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stal margi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frasternal ang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Xiphosternal jo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idclavicular Li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idaxillary Li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36" name="Picture 6" descr="Thorax Surface Anat"/>
          <p:cNvPicPr/>
          <p:nvPr/>
        </p:nvPicPr>
        <p:blipFill>
          <a:blip r:embed="rId1"/>
          <a:stretch/>
        </p:blipFill>
        <p:spPr>
          <a:xfrm>
            <a:off x="128520" y="1752480"/>
            <a:ext cx="4245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terior Surface of Thora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752480" y="2209320"/>
            <a:ext cx="6096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alpate the follow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pinous Process of C7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capula (ribs 2-7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capular spin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cromion Proc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ferior Angle of Spin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ferior Borde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ocating Internal Structu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5410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eart – deep to xiphosternal ang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leural Cavi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ferior margin = adjacent to T12    in Posterior Midlin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o Rib 10 at Midaxillary lin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o Rib 8 at Midclavicular lin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o Xiphosternal joint mediall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ungs posterior border is 2 ribs superior to pleural cavity (rib 8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41" name="Picture 6" descr="Thoracic Pleura"/>
          <p:cNvPicPr/>
          <p:nvPr/>
        </p:nvPicPr>
        <p:blipFill>
          <a:blip r:embed="rId1"/>
          <a:stretch/>
        </p:blipFill>
        <p:spPr>
          <a:xfrm>
            <a:off x="5092560" y="2514600"/>
            <a:ext cx="4051440" cy="2855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442" name="Text Box 7"/>
          <p:cNvSpPr/>
          <p:nvPr/>
        </p:nvSpPr>
        <p:spPr>
          <a:xfrm>
            <a:off x="594360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g 74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Sternum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mposed of fused sternebrae)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419360" y="1905120"/>
            <a:ext cx="4724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anubriu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ugular (sternal) not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rticulation with rib #1 &amp; 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avicular Articular face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ternal Angl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– 2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ri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dy (Gladiolu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rticulates w/ribs 2-7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Xiphosternal jo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Xiphoid proc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artilage-calcifies thru 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artial attachment of many musc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Picture 6" descr="Ribcage"/>
          <p:cNvPicPr/>
          <p:nvPr/>
        </p:nvPicPr>
        <p:blipFill>
          <a:blip r:embed="rId1"/>
          <a:stretch/>
        </p:blipFill>
        <p:spPr>
          <a:xfrm>
            <a:off x="0" y="2362320"/>
            <a:ext cx="4495680" cy="3906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09" name="Oval 7"/>
          <p:cNvSpPr/>
          <p:nvPr/>
        </p:nvSpPr>
        <p:spPr>
          <a:xfrm>
            <a:off x="1752480" y="2514600"/>
            <a:ext cx="838440" cy="205740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Rib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1148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sually, 12 pai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7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rue rib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-direct attachment to sternu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False rib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-indirect or no attachment to sternu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Times New Roman"/>
              </a:rPr>
              <a:t>Floating rib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-make up 2 of 5 False ribs, no ventral attachme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ypical Rib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ibs # 2-9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typical Rib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ibs #1, 10, 11, 12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inforce thoracic c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Picture 6" descr="Ribcage"/>
          <p:cNvPicPr/>
          <p:nvPr/>
        </p:nvPicPr>
        <p:blipFill>
          <a:blip r:embed="rId1"/>
          <a:stretch/>
        </p:blipFill>
        <p:spPr>
          <a:xfrm>
            <a:off x="4491000" y="2057400"/>
            <a:ext cx="4653000" cy="38862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2320" y="0"/>
            <a:ext cx="441936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ib Anatom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2767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ypical Rib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ec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uberc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g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haf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ubcostal Groo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0" y="4191120"/>
            <a:ext cx="4267080" cy="29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Atypical Rib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#1-short, flat (S-I), wide, Supports Subclavian vessel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#1, 10-12 articulate with only = # vertebr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#11, 12 don’t articulate with transverse processes, or anteriorly at al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7162920" y="5715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g 17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7" name="Picture 9" descr="showimage"/>
          <p:cNvPicPr/>
          <p:nvPr/>
        </p:nvPicPr>
        <p:blipFill>
          <a:blip r:embed="rId1"/>
          <a:stretch/>
        </p:blipFill>
        <p:spPr>
          <a:xfrm>
            <a:off x="4267080" y="1447920"/>
            <a:ext cx="441972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6477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ical Rib Articu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504960" y="1295280"/>
            <a:ext cx="563868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Dorsal (P) Attachment Thoracic Vertebra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Head of Rib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2 costal facets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uperior costal facet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4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ferior costal facet of vertebra above i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4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vertebral disc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ubercle of Rib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Transverse Costal Face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.g.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Rib #4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articulates with </a:t>
            </a:r>
            <a:r>
              <a:rPr b="0" lang="en-US" sz="2000" spc="-1" strike="noStrike">
                <a:solidFill>
                  <a:srgbClr val="9900ff"/>
                </a:solidFill>
                <a:latin typeface="Times New Roman"/>
              </a:rPr>
              <a:t>Superior Costal Facet and Transverse Costal Facet of T4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&amp;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ferior Costal Facet of T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Ventral (A) Attachment to Sternu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Via costal cartilag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Picture 9" descr="Rib Articulation"/>
          <p:cNvPicPr/>
          <p:nvPr/>
        </p:nvPicPr>
        <p:blipFill>
          <a:blip r:embed="rId1"/>
          <a:stretch/>
        </p:blipFill>
        <p:spPr>
          <a:xfrm>
            <a:off x="0" y="1066680"/>
            <a:ext cx="2568600" cy="23623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321" name="Picture 4" descr="showimage"/>
          <p:cNvPicPr/>
          <p:nvPr/>
        </p:nvPicPr>
        <p:blipFill>
          <a:blip r:embed="rId2"/>
          <a:stretch/>
        </p:blipFill>
        <p:spPr>
          <a:xfrm>
            <a:off x="0" y="3581280"/>
            <a:ext cx="38131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28240" y="2438280"/>
            <a:ext cx="38098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ttaches upper extremity to axial skelet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lds upper extremity away from skeleton for mobi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Picture 7" descr="showimage"/>
          <p:cNvPicPr/>
          <p:nvPr/>
        </p:nvPicPr>
        <p:blipFill>
          <a:blip r:embed="rId1"/>
          <a:stretch/>
        </p:blipFill>
        <p:spPr>
          <a:xfrm>
            <a:off x="3886200" y="1257480"/>
            <a:ext cx="4781520" cy="56005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51920" y="304560"/>
            <a:ext cx="54104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ctoral Gird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629400" y="304560"/>
            <a:ext cx="236232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capul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6" name="Picture 6" descr="showimage"/>
          <p:cNvPicPr/>
          <p:nvPr/>
        </p:nvPicPr>
        <p:blipFill>
          <a:blip r:embed="rId1"/>
          <a:stretch/>
        </p:blipFill>
        <p:spPr>
          <a:xfrm>
            <a:off x="0" y="38160"/>
            <a:ext cx="61722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23:10:29Z</dcterms:created>
  <dc:creator>Eylana Goff</dc:creator>
  <dc:description/>
  <dc:language>en-US</dc:language>
  <cp:lastModifiedBy>Sherry Zinn</cp:lastModifiedBy>
  <dcterms:modified xsi:type="dcterms:W3CDTF">2008-09-22T23:00:17Z</dcterms:modified>
  <cp:revision>41</cp:revision>
  <dc:subject/>
  <dc:title>The Thorax</dc:title>
</cp:coreProperties>
</file>